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942-970E-4DD7-AAC6-8F6AF0A9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884-528D-4E7F-B037-A8A624C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689-50E4-4A35-9B58-90769F22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3D5-DB29-40B2-9139-BB8A7AC2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FAB6-968B-4551-B6EC-115BB272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B1E1-415F-4752-A847-085C4AD0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123A-EE65-484C-A14B-605D1E66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CA6-C72C-4E8A-9517-A42A0ADE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E32-CB48-4B31-AE7A-80C02CB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CD3E-FE6E-4190-BDE5-D37B4A0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06D5-E222-4ABC-BD91-BAE20CD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D18-A4CB-4899-AB9A-7DF6817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205-807D-4E9F-BC18-4824758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0925-AC3D-41CE-8C71-0B52A6E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FC20-4CA2-4973-BD9C-3ECFC8BE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425-154B-4DBF-ABC6-F01BD564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933C-7101-492A-9331-99A29F13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429-6DAC-4E68-AFB5-EC01B54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2D0-70E7-4987-AF72-91330F47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2E4-9354-4853-9BF5-A30EF81C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E98-E339-4014-A7DD-E45A495C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81A-FE80-436C-B58F-EAAE8E7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82C-B663-48F2-BC62-B29CDBA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579-4F9A-43EC-913E-9916E58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2816-414C-433A-8BE8-F6F398229BF7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E289-1E35-4EB9-B7D4-3B6A91A2B4E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770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281400"/>
                </a:solidFill>
                <a:latin typeface="a_Albionic"/>
              </a:rPr>
              <a:t>Развитие письменной речи младших школьников 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82400"/>
                </a:solidFill>
                <a:latin typeface="Times New Roman"/>
              </a:rPr>
              <a:t>МКОУ «Плотавская СОШ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156360" y="472428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419640" y="602136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82400"/>
                </a:solidFill>
                <a:latin typeface="Times New Roman"/>
              </a:rPr>
              <a:t>с. Плота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875120" y="4292640"/>
            <a:ext cx="3827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нахова А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4883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82400"/>
                </a:solidFill>
                <a:latin typeface="a_Albionic"/>
              </a:rPr>
              <a:t>Речь. Речь? Речь!</a:t>
            </a:r>
            <a:endParaRPr b="0" lang="en-US" sz="6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5508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чь – основа всякой умственной деятельности, средство коммуник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116000" y="3068640"/>
            <a:ext cx="720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через развитие речи возможно становление и совершенствование мышления, воображения, эмо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116000" y="5157720"/>
            <a:ext cx="75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пехи в связной речи определяют успех в учебной работе по всем предмет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64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82400"/>
                </a:solidFill>
                <a:latin typeface="a_Albionic"/>
              </a:rPr>
              <a:t>Развитие письменной речи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жная задача обучения родному язы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30"/>
          <p:cNvPicPr/>
          <p:nvPr/>
        </p:nvPicPr>
        <p:blipFill>
          <a:blip r:embed="rId2"/>
          <a:stretch/>
        </p:blipFill>
        <p:spPr>
          <a:xfrm>
            <a:off x="6443640" y="4581360"/>
            <a:ext cx="2303640" cy="190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258920" y="3429000"/>
            <a:ext cx="748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только принцип, но и составная часть содержания начального курса русского язы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132000" y="5084640"/>
            <a:ext cx="194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Black"/>
              </a:rPr>
              <a:t>Н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99640" y="2276280"/>
            <a:ext cx="2357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зкий уровень развития речи уча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82400"/>
                </a:solidFill>
                <a:latin typeface="Times New Roman"/>
              </a:rPr>
              <a:t>Противоречие</a:t>
            </a:r>
            <a:endParaRPr b="0" lang="en-US" sz="6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564000" y="2708280"/>
            <a:ext cx="1873080" cy="1368360"/>
          </a:xfrm>
          <a:prstGeom prst="leftRightArrow">
            <a:avLst>
              <a:gd name="adj1" fmla="val 50000"/>
              <a:gd name="adj2" fmla="val 2725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651640" y="2276640"/>
            <a:ext cx="3313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ость успешного овладения речевыми навыками (в соответствии с государст. программами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 rot="5400000">
            <a:off x="3886920" y="5625360"/>
            <a:ext cx="1441440" cy="79200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af41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дный словарный зап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ует контроль за выбором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умения правильно распределять своё внимание между предметом высказывания и словесным оформлением мыс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116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482400"/>
                </a:solidFill>
                <a:latin typeface="Times New Roman"/>
              </a:rPr>
              <a:t>Проблем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831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абота над словом,  словосочетанием и предложе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 наиболее точного слова или словосочетания из числ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образцовых текстов, составление образных выражений по ана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отребление слов в прямом и переносном знач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олицетворениями, сравнениям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482400"/>
                </a:solidFill>
                <a:latin typeface="Times New Roman"/>
              </a:rPr>
              <a:t>Упражнения</a:t>
            </a:r>
            <a:endParaRPr b="0" lang="en-US" sz="8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971640" y="429264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абота над текс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простые вопр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я по озаглавливанию текста, определение темы тек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ение предложений, объединённых одной темой по сюжетным картинкам, по опорным слов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пословицами и т.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Виды работ над текстом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ение сплошного текста на отдельные предлож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ение сплошного текста на абзац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бодные диктан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каз с элементами опис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ление краткого расска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мена в тексте лица рассказч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ворчески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17732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a_Albionic"/>
              </a:rPr>
              <a:t>Значение системы работ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931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устной и письменной р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РАЗВИТИЕ ЛИЧНОСТИ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ФОРМИРОВАНИЕ КОММУНИКАТИВНЫХ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636640"/>
            <a:ext cx="7772400" cy="18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«Слово – одежда всех  фактов, всех мыслей»</a:t>
            </a:r>
            <a:br>
              <a:rPr sz="4400"/>
            </a:b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М. Горький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47:16Z</dcterms:created>
  <dc:creator>Кравченко</dc:creator>
  <dc:description/>
  <dc:language>en-US</dc:language>
  <cp:lastModifiedBy>777</cp:lastModifiedBy>
  <dcterms:modified xsi:type="dcterms:W3CDTF">2025-03-21T08:02:02Z</dcterms:modified>
  <cp:revision>8</cp:revision>
  <dc:subject/>
  <dc:title>Развитие письменной речи младших школьников</dc:title>
</cp:coreProperties>
</file>